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50C-A072-4FD5-B233-8D10D2D4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0A4-62CD-41D2-9061-7E9D2D1F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C21-005C-4C05-B923-3D4CE32E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67C-6C14-453F-93EF-F97BF5B2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A1CD-2002-4952-9CE1-B6BD4F2E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DDD-6409-46C7-817E-723C5E34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29F-EA05-404A-A23D-97440224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1F7-985C-44F0-A9B2-4C00CE3C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A7A-398D-4C03-9FAA-3326E0DA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5BB-DDDF-4D97-A425-382CE9A9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A077-AA10-4669-9DFC-302EA8A4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16A-02CF-4F90-A8E0-D67EF689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1DAF-721F-4BAB-B0F9-D7DBB9E70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56 S Ježiš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Ježišom chcem ver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ú chvíľ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čať týmto sveta údolí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ma vedie, on mi dáva sil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keď je so mn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ieľ svoj nestratím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chcem í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čokoľvek sa de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lesť tíši, rany zahoj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adna búrka s Kris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ozná nie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keď som s n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zlého nebojím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zdobia vždy cest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nné kvet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sto býva tŕním pokrytá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aj v skúšk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die svoje de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v svojej lásk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ne pamätá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milosť len tvoj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olieham 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je tvoj, ten iste nezhyni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ba ty si, Pane, moja sp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chcem byť s teb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lávy otčine.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0T10:04:53Z</dcterms:modified>
  <cp:revision>20</cp:revision>
  <dc:subject/>
  <dc:title>Je veľký náš Pán, on slávy je Kráľ Nech do všetkých strán  spev vrúcnych znie chvál.</dc:title>
</cp:coreProperties>
</file>